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A0D4-8D16-473E-A79D-DF8FD1D92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D389-283F-42D1-BC3C-C7BC165D1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FE09-84B5-488A-93A2-4FE95D5C7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127E-6051-4231-9629-AB86D1690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A88E-67FE-49B1-964F-E3E3CBA53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C986-45DD-43BC-B912-D27CCBD13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B0C5-BC05-478A-ABD6-B6F77F860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115E-EC32-402F-AB42-8D0287F79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707-3A55-49F4-A59E-37388899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8581-8AC2-4D22-997F-5B75086E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C23-692C-451F-B775-34A291B7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3386-785A-4879-A5E1-A12706AC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32C-5E31-4922-BD14-1DF30E0D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735-1EA5-4F57-99F7-EC3DD9BE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0101-33F4-4232-B23E-7CDCE32D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B69-2001-4583-BDD7-F91323AB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062-4545-4D66-B258-D7CD9624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CBC-4818-4FBF-B648-7D01F683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611-2AA9-4912-817F-D72894D0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771A-D100-4006-9C01-3EE73469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96E4-1A16-4EA1-A07C-12E4FD5A86C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0E6D-15BB-4D8A-9F67-8B339E4AF2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20760" y="274680"/>
            <a:ext cx="85024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8. Prostorové vytyčovací sí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Běžně se polohová a výšková složka určuje odděleně (obzvláště při vyšších požadavcích na přesnos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-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ouřadnicový systém lze volit také jako místní – v poloze i výšce, tj. bez redukcí. Rozměr sítě může být určen lépe než v S-JTS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-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 ohledem na rozsah sítě je nutné zvážit zavádění redukcí délek a převýšení (fyzikální, nadmořská výška, zobrazení, zakřivení Země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-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výhodou je menší přesnost měření oproti nivelaci (PN), měření je však celkově rychlejš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-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blémem může být dostatečně přesné určení výšky přístroje a cí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-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blémem je také vliv refrak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-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snost ve výšce až 1 mm na 500 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-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-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drobně na V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7321680" y="-4752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ng2_pred_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A2BF-452A-4A91-A6B0-A2A9EB4A5284}" type="slidenum">
              <a:rPr b="1" lang="cs-CZ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320760" y="274680"/>
            <a:ext cx="850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řevod měřených veličin na spojnici stabilizačních zna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7321680" y="-4752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ng2_pred_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5843-EDCA-4ED5-BD15-BAB04A833A53}" type="slidenum">
              <a:rPr b="1" lang="cs-CZ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14680" y="857160"/>
            <a:ext cx="407160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320760" y="274680"/>
            <a:ext cx="850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řevod zenitových úhlů na spojnici stabilizačních zna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7321680" y="-4752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ng2_pred_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71E3-D7F9-42A4-A382-1CC7E1794D8A}" type="slidenum">
              <a:rPr b="1" lang="cs-CZ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714680" y="857160"/>
            <a:ext cx="407160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320760" y="274680"/>
            <a:ext cx="850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Úhel sbíhavosti tížn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7321680" y="-4752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ng2_pred_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797B-5BF8-43EA-BE82-4978B866583B}" type="slidenum">
              <a:rPr b="1" lang="cs-CZ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714760" y="714240"/>
            <a:ext cx="342108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320760" y="274680"/>
            <a:ext cx="8502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ráce v místní kartézské soustav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den bod se zvolí jako počátek soustavy, osa +Z je pouze v tomto bodě totožná s tížnic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 měření na ostatních bodech je nutné opravovat měřené směry za zenitové úh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hodou je to, že měřené délky se neredukuj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íce viz. Skript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7321680" y="-4752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ng2_pred_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6D6F-6761-4112-A841-0B2785AEEA6B}" type="slidenum">
              <a:rPr b="1" lang="cs-CZ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320760" y="274680"/>
            <a:ext cx="850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rostorové sítě určené G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užití hlavně na větší vzdálenosti (měření s vysokou přesností), není nutná přímá viditelno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rčují se vektory, je vhodné je kombinovat s terestrickými metodami a z měření GPS je možné použít jen šikmé délky nebo i jen vodorovné délky (polohová síť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íce viz. V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7321680" y="-4752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ng2_pred_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8C2A-E368-405C-B5A6-CEC07FEAE39E}" type="slidenum">
              <a:rPr b="1" lang="cs-CZ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3"/>
          <p:cNvSpPr/>
          <p:nvPr/>
        </p:nvSpPr>
        <p:spPr>
          <a:xfrm>
            <a:off x="285840" y="314316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Konec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7321680" y="-4752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ng2_pred_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D9EC-8FBB-43E2-83AC-70675EB1208B}" type="slidenum">
              <a:rPr b="1" lang="cs-CZ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1:42:11Z</dcterms:created>
  <dc:creator>martin stroner</dc:creator>
  <dc:description/>
  <dc:language>en-US</dc:language>
  <cp:lastModifiedBy>martin stroner</cp:lastModifiedBy>
  <dcterms:modified xsi:type="dcterms:W3CDTF">2008-12-13T10:11:56Z</dcterms:modified>
  <cp:revision>331</cp:revision>
  <dc:subject/>
  <dc:title>Slide 1</dc:title>
</cp:coreProperties>
</file>